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9256-B86E-4A1A-BDC7-8F0AD00C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E8BC-6CBF-4073-A625-1401B846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D8B-BBFC-48D1-99AF-72F7ED19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78E7-B404-4FA4-B012-73C35EB4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AD6F-4F0D-4C62-86E9-6A3318CC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85BE-387F-4D8E-84A9-6F7C8C56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103C-B98B-4B33-899A-3120CD7F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D31D-FCA5-4F78-ACD9-EEB1F56D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AD4F-EC5A-437C-A99C-E1FB463A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0DA9-4198-459C-9DEE-694A5C5A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B345-51C2-4076-9319-6405FDC9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72F6-2ED4-4B0A-87BB-DFB96048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E903-9D60-40F5-86EB-45FE0180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0A00-CE47-4098-B9ED-8329727E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4C40-F836-44A0-AF2E-8C6EF2A7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FE89-E972-4DAA-AB9E-EB6BEACB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7E7F-5620-4906-9F9B-A10AEEA2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2C9D-3284-4111-825A-960A2A45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4891-5E47-423E-A27B-63A85C70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E59B-FA82-476E-87F1-7C64B2FB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99B6-0D0F-431B-914B-E4E634B9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EE0-395D-45D0-BA27-DDC8142A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C54E-57BE-4C5C-937F-E7246A28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5DFE-31CB-4D3F-8B6D-6EFCA937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B840-85E9-46D4-8D74-4E1DD224A887}" type="slidenum">
              <a:rPr b="0" lang="hu-H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3805-B7F4-4A93-91EB-12387A009CE5}" type="slidenum">
              <a:rPr b="0" lang="hu-H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ARKETING ALAPISMERETE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560" y="2637000"/>
            <a:ext cx="7010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9. október 20. és november 3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43280" y="3284640"/>
            <a:ext cx="34178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 VEVŐÉRTÉK FOGAL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= a megvásárolt termék vagy szolgáltatás (a) és az érte nyújtott ellenszolgáltatás (b) különbsé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ék értéke, szolgáltatás értéke, személyzet/kiszolgálás értéke, imázs érték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öltség, időráfordítás, energia ráfordítás, pszichikai ráfordí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 MARKETING HÁLÓZATB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szerzés és ellátás (logiszti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yár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osztás (logiszti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rketing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értékesíté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zolgálta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353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GY NÉPSZERŰ TÉMA A 21.SZÁZADBAN: 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FOGYASZTÓI MAGATARTÁ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öbbféle modellt alkottak vizsgálatá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ásárlási szándék: a vevő „fekete doboza” (az individuumot rejti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merhető belől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vevő egyéni jellemző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döntési folyamat eleme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MARKETINGTÍPUSOK A VEVŐ SZEMSZÖGÉBŐL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áció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ulturáli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gionáli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1557360"/>
            <a:ext cx="1800360" cy="1603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867280" y="3141720"/>
            <a:ext cx="2590920" cy="1722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940360" y="4797360"/>
            <a:ext cx="25923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I A MARKETIN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állalalati tevékenység orientációja a versenyképesség érdekéb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állalat és a piac kapcsolatán alapu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eredményességének feltétele, hogy az adott vállalkozá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egismerje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ersenytársaknál jobban kielégítse a vevők szükséglete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IN ALAPUL A MARKETIN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vők szükséglete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élpia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zervezeti koordináci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yereségessé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LYEK A MARKETING FŐBB ESZKÖZEI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DUCT (termék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ICE (ár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LACE (értékesítés helye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MOTION (kommunikáció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EGY SIKERES MARKETINGFOLYAMAT A 19. SZÁZADBÓL: </a:t>
            </a:r>
            <a:br>
              <a:rPr sz="3400"/>
            </a:b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Isaac Singer és a varrógé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3363840" cy="4724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00720" y="2060640"/>
            <a:ext cx="38271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243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Singer újítása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lábbal hajtott pedá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z anyagot varrás közben leszorító tal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az üzlettárs, Edward Clark ötlet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ingyenes „reklámújság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régi gépek beszámít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női vásárlóközönség megcélz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56: 2564 gé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60: 100000 gé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67: a </a:t>
            </a: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Singer Corporation</a:t>
            </a: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ilág els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ultinacionális cé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(Singer vagyona halálakor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5 millió dollá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210360" y="1844640"/>
            <a:ext cx="293364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enry Ford, a Ford T tervezője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inden vevő megkaphatja a kedvenc színű autóját, feltéve, ha az a fekete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63640" y="3164040"/>
            <a:ext cx="45370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A TÁRSADALMI FELELŐSSÉG KÉRDÉ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zabályozás hatás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tikai befolyá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tikai befolyásolá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senyből adódó hatáso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M EGYSZERŰEN A SZÜKSÉGLETEK KIELÉGÍTÉSE ÉS A PROFIT MAXIMALIZÁLÁSA A CÉL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4:09:15Z</dcterms:created>
  <dc:creator>MS-USER</dc:creator>
  <dc:description/>
  <dc:language>en-US</dc:language>
  <cp:lastModifiedBy>Jakab</cp:lastModifiedBy>
  <dcterms:modified xsi:type="dcterms:W3CDTF">2010-07-05T19:12:47Z</dcterms:modified>
  <cp:revision>4</cp:revision>
  <dc:subject/>
  <dc:title>MARKETING ALAPISMERETEK</dc:title>
</cp:coreProperties>
</file>