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02F41-8184-4334-873F-67C00B9C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FBA4D-44DC-4B00-AD9E-53AA8FAB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B8478-B243-403A-AE7A-DEDF6A03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DEB47-CFCE-4AD6-8771-44D4B316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C148-B183-4F99-9E0E-6765BBC7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7552-25FC-40EC-ADEE-18446299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383B-5A3D-4B91-AAD5-74E7842B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A9AC-BD26-44C9-9CE4-FD1F60A7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FB73-D680-471D-B6F5-394F96C7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E849-A4DB-484A-A6C8-72661F0F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0928-51B2-45BF-8DB9-30B01DDC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EBBB1-3EB3-406F-B31F-224ACB9E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6975-C235-4371-936C-D0030F39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3A89-011A-42C8-B561-698E11CF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308E-5387-4925-A9EA-C675A673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7C55-B503-46EA-BCB3-51B66FA5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4ADE-C2F4-464E-948E-AFB1D1A6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AC334-9B69-4F04-B254-8D46E32F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A2AA9-73D8-4B38-B37F-029C52A5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759EB-21EC-4D40-BDBB-B9F90EE5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E9075-6EAB-47B1-B7E5-3B013300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08C03-CF55-4AE4-B5B5-6FCB3877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6433C-8587-482B-AC2D-50883E89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96F5A-FA9C-4D4D-AD06-3DDCE3CC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7f3f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EAC1-CFC8-459D-9703-686FB6ED49A9}" type="slidenum">
              <a:rPr b="0" lang="en-US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7f3f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4081-BBD9-4532-B4E2-C5F0F0CAEA8D}" type="slidenum">
              <a:rPr b="0" lang="en-US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jfifo.uw.hu/vendegl.doc" TargetMode="External"/><Relationship Id="rId2" Type="http://schemas.openxmlformats.org/officeDocument/2006/relationships/hyperlink" Target="http://vallalkozokedv.webkatalogus.com/v_formak.html" TargetMode="External"/><Relationship Id="rId3" Type="http://schemas.openxmlformats.org/officeDocument/2006/relationships/hyperlink" Target="http://vallalkozokedv.webkatalogus.com/v_formak.html" TargetMode="External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Egyéni vállalkozás: </a:t>
            </a:r>
            <a:br>
              <a:rPr sz="4400"/>
            </a:b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hagyományos étterem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84360" y="2133720"/>
            <a:ext cx="403884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Terjeszkedési lehetőség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a főváros különböző belső kerületeibe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vidéki nagyvárosokb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3638520" cy="24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8c1ba"/>
                </a:solidFill>
                <a:latin typeface="Garamond"/>
              </a:rPr>
              <a:t>Irodalomjegyzé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0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hjfifo.uw.hu/vendegl.doc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vallalkozokedv.webkatalogus.com/v_formak.html</a:t>
            </a: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5229360"/>
            <a:ext cx="403236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Készítette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7f3f3"/>
                </a:solidFill>
                <a:latin typeface="Garamond"/>
              </a:rPr>
              <a:t>Palotai Tímea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7f3f3"/>
                </a:solidFill>
                <a:latin typeface="Garamond"/>
              </a:rPr>
              <a:t>Barakka Patrícia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.11.01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Szükséges dolgozó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üzletvezető (vendéglátó-ipari végzettséggel)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nyvelő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pincér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szakács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159520" y="1600200"/>
            <a:ext cx="30146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Kft. Indítási költségei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Törzstőke: minimum 3.000.000,- Ft, ennek minimum a 30 %-nak, de  legalább 1.000.000,- forintnak készpénznek kell lennie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Egy tag törzsbetéte 100.000,- Ft-nál kevesebb nem lehet, s a forintban kifejezendő törzsbetét tízezerrel maradéktalanul osztható legyen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Közzétételi díj 20.000,- Ft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Illeték 80.000,- Ft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láírási címpéldány min, 5 db 2.000,- Ft/db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Ügyvédi díj: ügyvédtől függő, kb. 100.000,- 120.000 Ft.</a:t>
            </a:r>
            <a:br>
              <a:rPr sz="2000"/>
            </a:br>
            <a:r>
              <a:rPr b="0" lang="en-US" sz="20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Engedély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ÁNTSZ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tűzvédelmi hatóságok hozzájárulás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jövedéki engedély alkohol és dohányárur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működési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zterületi árusítási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Bejelentési kötelezettség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87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szeszes ital forgalmazásának bejelentése a rendőrségen 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 zene/műsorszolgáltatás bejelentése a rendőrségen, helyi jegyzőnél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z üzlet osztályba sorolás</a:t>
            </a:r>
            <a:r>
              <a:rPr b="0" lang="en-US" sz="2400" spc="-1" strike="noStrike">
                <a:solidFill>
                  <a:srgbClr val="f7f3f3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 a helyi jegyzőnél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I. osztályba sorolás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elkülönített fogadótér a bejárattó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vendégekkel érintkező dolgozók formaruhát viselnek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vezető és a konyhafőnök szakképzett és 5 év szakmai gyakorlata van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fellépő művészek A típusú igazolvánnyal rendelkeznek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égfelirat készítése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név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üzlettípus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ulajdonos neve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vállalkozás formája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Arcul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dohányzó és nemdohányzó helyiség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barátságos légkör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erthelyiség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032000" cy="26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c1ba"/>
                </a:solidFill>
                <a:latin typeface="Garamond"/>
              </a:rPr>
              <a:t>Elhelyezkedés</a:t>
            </a:r>
            <a:br>
              <a:rPr sz="4000"/>
            </a:b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fővárosban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zel a központhoz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forgalmas helyen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3327480" cy="380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08:27:06Z</dcterms:created>
  <dc:creator>Pekár Mihály</dc:creator>
  <dc:description/>
  <dc:language>en-US</dc:language>
  <cp:lastModifiedBy>Jakab</cp:lastModifiedBy>
  <dcterms:modified xsi:type="dcterms:W3CDTF">2010-07-05T21:45:20Z</dcterms:modified>
  <cp:revision>6</cp:revision>
  <dc:subject/>
  <dc:title>Egyéni vállalkozás: hagyományos étterem</dc:title>
</cp:coreProperties>
</file>